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06B-EA31-43DE-B293-EFB3E35C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601-24D2-46DB-A22E-6450B4BA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9DB-D2D8-4905-9B26-D981303F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32A3-F8AC-487C-8C40-A1EF64B0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100-67A1-4F8D-9598-5032546E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A6A-9651-42C2-B6FD-5CD43314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1C9-FCF4-49CC-A049-F89EE2DD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0E6-44C2-46C9-BE29-8E5413C0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985-99B9-4D40-A95A-3439C032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BD1-6E2E-487C-838F-076A6EB6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E71-3199-4004-AF33-4FC9CBE4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003-E9E2-48A9-8C2F-C91C4831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846-3371-49CB-8970-60B55AF43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7560" y="76212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6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7480" y="2057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0360" y="31240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" y="4381560"/>
            <a:ext cx="16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4381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64832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by a surpris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Org change, Technology change, or busin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1" idx="2"/>
            <a:endCxn id="43" idx="0"/>
          </p:cNvCxnSpPr>
          <p:nvPr/>
        </p:nvCxnSpPr>
        <p:spPr>
          <a:xfrm flipH="1">
            <a:off x="1801440" y="1221840"/>
            <a:ext cx="255636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1" idx="2"/>
            <a:endCxn id="44" idx="0"/>
          </p:cNvCxnSpPr>
          <p:nvPr/>
        </p:nvCxnSpPr>
        <p:spPr>
          <a:xfrm>
            <a:off x="4357440" y="1221840"/>
            <a:ext cx="18896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3" idx="2"/>
            <a:endCxn id="46" idx="0"/>
          </p:cNvCxnSpPr>
          <p:nvPr/>
        </p:nvCxnSpPr>
        <p:spPr>
          <a:xfrm>
            <a:off x="1801440" y="2440800"/>
            <a:ext cx="72000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2"/>
            <a:endCxn id="45" idx="0"/>
          </p:cNvCxnSpPr>
          <p:nvPr/>
        </p:nvCxnSpPr>
        <p:spPr>
          <a:xfrm flipH="1">
            <a:off x="980280" y="2440800"/>
            <a:ext cx="82152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1360800" y="3583800"/>
            <a:ext cx="11606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2521080" y="3583800"/>
            <a:ext cx="9842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895480" y="480060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completing a set of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nd of phase or mile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480" y="4876920"/>
            <a:ext cx="218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weekly, 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124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4" idx="2"/>
            <a:endCxn id="58" idx="0"/>
          </p:cNvCxnSpPr>
          <p:nvPr/>
        </p:nvCxnSpPr>
        <p:spPr>
          <a:xfrm>
            <a:off x="6246720" y="2517120"/>
            <a:ext cx="34488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236600" y="2239920"/>
            <a:ext cx="1093680" cy="144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040" y="4641840"/>
            <a:ext cx="16336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8160" y="4626000"/>
            <a:ext cx="1094040" cy="144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4280" y="1467000"/>
            <a:ext cx="1289160" cy="325440"/>
          </a:xfrm>
          <a:prstGeom prst="wedgeRectCallout">
            <a:avLst>
              <a:gd name="adj1" fmla="val 85958"/>
              <a:gd name="adj2" fmla="val 203171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Schedu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83320" y="1619280"/>
            <a:ext cx="1644840" cy="325440"/>
          </a:xfrm>
          <a:prstGeom prst="wedgeRectCallout">
            <a:avLst>
              <a:gd name="adj1" fmla="val -36388"/>
              <a:gd name="adj2" fmla="val 129513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Unantic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76960" y="2319480"/>
            <a:ext cx="1633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680" y="3808440"/>
            <a:ext cx="1289160" cy="595440"/>
          </a:xfrm>
          <a:prstGeom prst="wedgeRectCallout">
            <a:avLst>
              <a:gd name="adj1" fmla="val 54680"/>
              <a:gd name="adj2" fmla="val 85731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Time 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6520" y="3465360"/>
            <a:ext cx="1289160" cy="595440"/>
          </a:xfrm>
          <a:prstGeom prst="wedgeRectCallout">
            <a:avLst>
              <a:gd name="adj1" fmla="val -41870"/>
              <a:gd name="adj2" fmla="val 116134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Event 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0:00:52Z</dcterms:created>
  <dc:creator>JERRYD</dc:creator>
  <dc:description/>
  <dc:language>en-US</dc:language>
  <cp:lastModifiedBy>JERRYD</cp:lastModifiedBy>
  <dcterms:modified xsi:type="dcterms:W3CDTF">2003-04-29T01:15:17Z</dcterms:modified>
  <cp:revision>3</cp:revision>
  <dc:subject/>
  <dc:title>PowerPoint Presentation</dc:title>
</cp:coreProperties>
</file>